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DDA3-E9C5-4A75-94C6-02DAC46BE6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ED0F-6CA5-41F7-8654-55810928F07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DE6-311D-4B16-B98E-AF11063F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6FF-957F-4170-9E5B-1D9E28D7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C96-0F94-45FD-9675-86AD27F3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D6D-9FA9-4E37-B686-00C99496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1BF8-E14F-4B2B-97E1-517E33CE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E533-DCD8-4919-8DDC-012A83D2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6516-1937-49AD-8EA3-F1FD023B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F171-F8CE-4D96-9E64-14BADCAC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7654-6934-43F8-933D-B3038283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6574-568B-4144-A345-E0690D7F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4234-A179-4E68-B1FC-2FF63BBE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50A-1B9C-4E76-9DFC-33E9837E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D24B-A8D8-45B9-AD1A-90F000F6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4375-55F1-4366-BCD9-4F40D3CD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A7F3-1FF8-4B63-B942-D011E69E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3113-18B4-4C7B-90FD-6943AB23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EA19-D69E-44D9-BA2C-68E7EDAB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AF39B-85B7-4E83-8C60-209B57FA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531CF-0D21-4A54-99CD-D808C9DA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37FEB-237A-4D7E-A63F-7F978E18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79A7E-5DDD-417A-B774-99D68E59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20E779-4CDC-4D50-A715-98E772B3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488-2F6D-497C-824B-BE5AC4BF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B66F4-FD75-4FEB-BA9A-58B70FA0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605EF-BE10-4230-AD61-54CCC09C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E758A-D48F-4659-9B9C-7599952A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DE2A2-CF33-4511-AD51-426F56B9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1B7DD-E1B8-44E0-A450-E16E5A30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EE230-1F87-4EF9-8B86-9E4A3FA9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9D789-55AA-4AD2-921D-CA758EE9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943802-3616-40A7-B742-0ACB8C86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65D14B-CFF4-4494-BBE0-2C1B930A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479D23-8AC1-4F0A-A970-606A3E4F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6B8-F80C-4A46-A2FE-E3A91B43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593381-0810-46DF-B8C7-190F2D9E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110547-0E93-4B08-9384-827A9605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6872C-E3A2-4A73-931E-57CC2B13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6295A3-7B85-4236-B97D-5B3DB7A5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1B2A8E-DB19-4C2C-994D-0C9FF75C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9A4429-2794-48F7-91CD-86BA1282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A74DE0-B7A9-41EE-A537-353D43AD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309B57-34DE-4457-947B-892DDA64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EBF1B3-69D5-4705-95E6-F20690A5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EBA-1525-45F2-9018-98C7ED68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34E0-2380-45A8-9976-0203E69E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39B-DB37-4688-BF9E-4E2DA653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D31-BC98-4C4D-86F2-0E84601C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273-7E72-4173-ABF5-013FCB31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CD9A-E1D5-4002-ABB8-CA93C2CB6B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7151-CC05-463D-A231-62E1C8EF94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DBF0-0931-4C3C-A297-A62BEC1AD3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4762-CFB3-4923-B1F7-70B23CE283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09120" y="404640"/>
            <a:ext cx="800100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олнительные с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жно получит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-mail: sharabidze.n@serbsky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тел. 8(495) 637-58-4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й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ГБУ «НМИЦПН им. В.П. Сербского» Минздрава России 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bsky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ПЦ ПЗДП ДЗМ или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pb6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л.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 (495) 952-54-39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ки программы ТЕРПИНС-9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запустить установочный файл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SETUP_TERPINS9.EX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Наталья Викторовна Лазько</cp:lastModifiedBy>
  <cp:lastPrinted>2017-12-07T17:18:35Z</cp:lastPrinted>
  <dcterms:modified xsi:type="dcterms:W3CDTF">2020-11-23T13:09:44Z</dcterms:modified>
  <cp:revision>801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